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18 ФАРМАКОЛОГИЈА 2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 АНТИБАКТЕРИЈСКИ ЛЕКОВ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ТУБЕРКУЛОТ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ц. др Срђан Стефан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тапамул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8708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ује добро на осетљиве сојеве стафилокока и стрептокока (контраиндикован код МРСА или ВРСИ стафилоконих кожних инфекциј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односу на мупироцин карактерише га комфорније  дозирање, краће трајање терапије и мањи потенцијал за развој резист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тапамул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имална системска апсорп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сок проценат везивања за протеине плаз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аболише се у јетри преко ЦИП450 3А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а НД: иритација коже на месту приме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усидинска кисе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 маст, одобрена у Србији за лечење  стафилококних, али и стрептококних  примарних и секундарних кожних инфекција, као и инфекција изазваних бактеријом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rynebacter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nutiss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лошки није сличан ниједном АБ, нема укрштене резистенције, нити преосетљ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усидинска кисе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87080"/>
            <a:ext cx="8507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инактивишу га фибрин и гно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комфорно дозирање, стероидна структура, може продирати и кроз неоштећену ко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лучује се углавном путем жучи, а мање преко у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ремено се могу јавити иритација коже на месту примене и друге локалне р-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отрекогин алф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комбинантни хумани активирани протеин 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еин Ц се синтетише у јетри као одговор организма на инфек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лексан, углавном непознат механизам деј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ио се за лечење најтежих облика сепсе/септичког шока код одраслих пацијената, али је 2011. повучен из промета због мале ефикасности у смањењу смр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отрекогин алф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њује се путем к.и.в. инфузије, у трајању од 4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активирају га ендогени инхибитори протеаза из крвне плаз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јважније НД: крварењ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: ризик од обимног крварења где су отежане механичке методе хемоста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ечење туберкул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блем од раније: брзо стицање резистенције микобактерије, због чега се препоручује увек комбинација антитуберкуло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времени проблем: 9 милиона новооблолелих од ТБЦ, међу којима је код 480000 проузроковач мултирезистентна микобактерија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D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Health Organization. Global tuberculosis report 2014. WHO/HTM/TB2014.08. Geneva, World Health Organization, 20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ечење туберкул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валенц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D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ојева: 20-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R/XDR (мулти/екстензивно резистентна) ТБЦ повезана је са великим тешкоћама и изазовима када је у питању лечењ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го 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боптимални терапијски исх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ксичност ле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лики трошкови леч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O (2014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нова иновативна интервенција названа -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TB Strate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ечење туберкул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титуберкулотици првог реда (обично 4 лека се примењују у прва 2 месеца, па онда 2 лека током наредна 4 месеца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онијаз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фампиц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тамбу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разинам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птомиц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онијаз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205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хибира синтезу миколне киселине, која је есенцијални састојак ћелијског зида микобактер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им за лечење свих облика, користи се и за превенцију код особа са повећаних ризиком од настанка ТБ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ро се апсорбује из црева, продире у сва ткива, а метаболише се ацетилацијом у јет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тронидаз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287440"/>
            <a:ext cx="829152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риват 5-нитроимидазола, селективно га преузимају анаероби и и неензимски редуку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актрицидни АБ, прекида репликацију ДНА и транскрипциј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тро група блокира синтезу енергијом богатих једињ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онијаз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а НД: хемијски хепатитис, конвулзије, периферни неурити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вулзије и периферни неуритис посебно настају код “спорих ацетилатора”, због чега се изонијазид увек користи истовремено са витамином 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ифампиц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133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хибира синтезу РНА у микобактеријама (блокира ДНА зависну РНА полимераз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ји мокраћу наранџасто-жу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а НД: хепатитис, синдром сличан грип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ажни индуктор ЦИП450 у јетри, због чега може ступати у бројне лек-лек интеракције (нпр. смањује ефекат оралних контрацепти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тамбут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хибира синтезу арабино-галакт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исти се свакодневно, за разлику од других антитуберкуло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або продире у Ц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азива запаљење оптичког нерва, са иницијалном манифестацијом поремећаја колорног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иразинам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44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ује и у киселој средини лизозома, чиме убија и микобактерије које могу перзистирати у макрофаг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ханизам дејства непознат, претпоставља се да је активни принцип пиразиноична киселина настала дејством ензима пиразинамидазе из М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а НД: хепатитис, хиперурикемија са нападом гих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ептомиц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миногликозид који слабо продире кроз ЕЦ мемб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ује превасходно на Мб у екстраћелијском простору и каверн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је се свакодневно у терапији ТБ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а НД: нефротоксичност и ототоксич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ечење резистентних облика туберкул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7440"/>
            <a:ext cx="836280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титубекулотици 2. реда (никада самостално, већ у комбинацији до 24 м.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луорохинол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микац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преомиц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тионам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ропенем-клавула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незол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времено лечење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DR/XD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туберкул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87080"/>
            <a:ext cx="8507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D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уберкулоз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кобактерија је резистентна на изонијазид и рифампиц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D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уберкулоз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кобактерија је додатно резистентна и на најмање један ФХ и један инјекциони антиТБЦ лек 2. 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даквилин и деламанид – нови антитуберкулотици 2. реда, лекови “сирочић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времено лечење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DR/XD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туберкул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даквилин и деламанид су одобрени за лечењ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D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ућне ТБЦ код одраслих пацијената у комбинацији са другим антитуберкулотиц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даквилин блокира АТП синтетазу, а даламанид синтезу метокси- и кето-миколне кисе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њују се под надзором искусног лекара, до 6 месеци континуир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времено лечење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DR/XD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туберкул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премаркетиншким студијама оба лека су показала импресивне ефекте у односу на плацебо у погледу губитка микобактерија у спутуму пацијен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а НД: мучнина, повраћање, главобоља, вртоглавица, артралгија, анксиозност, парестезије, тремор, продужењ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нтервала у ЕКГ-у (посебно код деламанид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тронидаз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ажно делује против анаероба (свих кока, Г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Г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ацила) и протозоа (амеба, ђардија, трихомонас и др.), активан против хеликобакте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ил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лом се метаболише у јетри, излучује се у урину (црвено-браон боји ур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ална и парентерална при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тронидаз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287440"/>
            <a:ext cx="836280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кације: тешке инфекције у трбуху/карлици изазване анеробима, псеудомембранозни ко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Д: главобоља, мучнина, сува уста, метални укус у устима, неуротоксичност, тератогеност дисулфирамска реакц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нидазол (структурни аналог) – одобрен за лечење протозоалних инфе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имикс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228708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птидна хемијска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имиксин Б и полимиксин Е (колист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 делују искључиво на Г- аеробе, укључујући и резистентне сојеве (псеудомонас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ћавају пропустљивост ћелијске мембране, чиме доводе до лизе и смрти бактерије (дејство "детерџента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имикс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ома слаба апсорпција из ГИТ-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бог значајне токсичности (неуротоксичност, нефротоксичност, застој дисања) углавном се користе само локал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зетак је колистин у облику соли колистиметат-натријума, који се примењује и и.в. пу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упироц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сеудомонична киселина, природна супстанца изолована из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. fluoresc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% крем за локалну примену, нема значајну БР због брзе разград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хибира изолеуцил тРНА синететаз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ује против златног стафилокока (осетљиви и МРСА сојеви) и пиогеног стрепток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упироц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кациј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ршински мање, секундарно инфициране трауматске кожне ле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ално клицоноштво златног стафилокока (здравствени радниц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а НД: хиперсензитивне кожне реакци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тапамул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вији, полусинтетски антибиотик из групе плеуромути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хибира иницијацију синтезе протеина вишеструким, другачијим механизмом у односу на друге антибиот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кална примена (1% маст), индикован је за лечење импетига и инфицираних мањих трауматских лезија коже код деце старије од 9 м. и одрасл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3T10:52:34Z</dcterms:created>
  <dc:creator>Srdjan Stefanovic</dc:creator>
  <dc:description/>
  <dc:language>en-US</dc:language>
  <cp:lastModifiedBy>User</cp:lastModifiedBy>
  <dcterms:modified xsi:type="dcterms:W3CDTF">2017-09-14T22:00:31Z</dcterms:modified>
  <cp:revision>33</cp:revision>
  <dc:subject/>
  <dc:title>Интегрисане акaдемске студије фармације Фармакологија 1 – Б16 Предавање – 9. наставна недеља</dc:title>
</cp:coreProperties>
</file>